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2E1-C27D-44CD-9F8C-FA710142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698-ED48-49F0-97C9-96B2FC5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10A-537F-46AD-B5C1-0BB3270A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EB3-73B8-4345-8C1B-03BB6280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604-6CB8-4D01-BC60-AF56D5A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37B-9E11-4E30-B2FE-63AB401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E80-250F-401A-8438-103CC8A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FCF-97DA-423B-834A-10F9625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9A7-3BC6-4EB6-9695-F5DA457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B25-8BD3-4522-9F6F-14D12271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4FB-91DD-4BD4-9F04-8F813B9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1D7-AA4C-4F9B-8ACA-D91FFE2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DD94-F6A4-473F-8C41-08C9C4A3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ljplus.ru/img2/pycaky/City-Hall,-Vienna,-Austria.jpg&amp;imgrefurl=http://www.cfkeep.org/html/snapshot.php%3Fid%3D26456094557844&amp;h=1200&amp;w=1600&amp;sz=305&amp;hl=en&amp;start=1&amp;tbnid=HM_0Kg0N4MUGLM:&amp;tbnh=113&amp;tbnw=150&amp;prev=/images%3Fq%3DCity%2Bof%2BVienna%26gbv%3D2%26svnum%3D10%26hl%3Den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en.wikipedia.org/wiki/Image:Wiener_Riesenrad_dsc02961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naletto_%28I%29_058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5754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gress of 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an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e Klemens von Metterni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ustrian Foreign Min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14344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d over the Congress:  Legitimacy and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After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of Vienna, 18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819520" cy="21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2438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4000680" cy="259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200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uilding in Vi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2857680" cy="193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352680" y="3200400"/>
            <a:ext cx="223200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541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995640" cy="299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00560" cy="3224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0080" y="2895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nub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114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11428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1905120" cy="2552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9480" y="609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The Riesenrad in the Wiener Prat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533520"/>
            <a:ext cx="2381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Vienna during the first half of the 18th century, painting by Canaletto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3880"/>
            <a:ext cx="7086600" cy="4535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enna 180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quiry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, direction which way should Europe turn?  As you are the leaders of Europe clean up the mess left by Napoleon!  Prioritize your ai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ssu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ar Alexander I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381400" cy="373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5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Frederic William III of P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37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Castlereagh the British Foreign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9528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7196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556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Maurice de Talleyrand, F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714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1:21:52Z</dcterms:created>
  <dc:creator>Ecole Plamondon School</dc:creator>
  <dc:description/>
  <dc:language>en-US</dc:language>
  <cp:lastModifiedBy>Ecole Plamondon School</cp:lastModifiedBy>
  <dcterms:modified xsi:type="dcterms:W3CDTF">2007-02-19T22:13:32Z</dcterms:modified>
  <cp:revision>2</cp:revision>
  <dc:subject/>
  <dc:title>The Congress of Vienna</dc:title>
</cp:coreProperties>
</file>